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36D-7B3E-4A70-8029-3D71AA6032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F98C-7165-473C-9EC5-4A3C3B77FC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D31-896D-45D5-AC19-C6531670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1C7-4C4D-4FA4-AA9B-EFBD8C0C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0F3-3808-446E-947D-D7420FC4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ABB-D407-4F96-BCD2-5EB566EE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D741-3887-4555-8CE7-A4647EB0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393-3F35-4C96-9397-286FC8FB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F102-CB47-498B-B085-FDBC035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8960-F827-4B41-B406-58AFE11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2CE-1EA3-4A28-9CAE-E612E91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07F5-A6E5-4E04-A2B4-4F37331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87F-7FC0-40B5-9E6F-43D2339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A40-674A-41EF-B207-DE05344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4AE2-8BA0-4D49-A5C1-B57DD42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3A8F-137F-4272-A8F1-B4D94C4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DD7-EFEF-4BEF-8580-4F0EFD4B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C25-98CC-4FE0-82D3-B83FC4C5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BE2D-9431-40B0-8731-34DB2A54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4D2-4151-47F4-9738-9B50252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AFA-BA96-4920-AC1A-C2714AA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0B1-BFB3-45F5-8C7B-94340F5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36E-3836-407B-A899-768D05B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EF0-A6C1-4D0B-9BDB-FE028C6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59E-8469-4B5B-9C4D-926B5E6B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942-6FE2-4983-A2C3-C4A9F48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68C-ED84-484D-8E1D-71FC2B1F2B80}" type="datetime">
              <a:rPr b="0" lang="pl-PL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5CF4-4C93-4050-BD5A-E6CDE38DB94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44D-280B-40CD-AB56-0954C11AF4EA}" type="datetime">
              <a:rPr b="0" lang="pl-PL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4187-BDDF-43DE-8D81-F370D7062F2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pl-PL" sz="4800" spc="-1" strike="noStrike">
                <a:solidFill>
                  <a:srgbClr val="330033"/>
                </a:solidFill>
                <a:latin typeface="Arial"/>
              </a:rPr>
              <a:t>ZMIANY W UKD</a:t>
            </a:r>
            <a:r>
              <a:rPr b="0" lang="pl-PL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l-PL" sz="4400" spc="-1" strike="noStrike">
                <a:solidFill>
                  <a:srgbClr val="330033"/>
                </a:solidFill>
                <a:latin typeface="Times New Roman"/>
              </a:rPr>
              <a:t> problem czy  potrzeba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6" descr="logo"/>
          <p:cNvPicPr/>
          <p:nvPr/>
        </p:nvPicPr>
        <p:blipFill>
          <a:blip r:embed="rId1"/>
          <a:stretch/>
        </p:blipFill>
        <p:spPr>
          <a:xfrm>
            <a:off x="1116000" y="189000"/>
            <a:ext cx="66960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4"/>
          <p:cNvSpPr/>
          <p:nvPr/>
        </p:nvSpPr>
        <p:spPr>
          <a:xfrm>
            <a:off x="321480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ymbol zastępczy stopki 5"/>
          <p:cNvSpPr/>
          <p:nvPr/>
        </p:nvSpPr>
        <p:spPr>
          <a:xfrm>
            <a:off x="1000080" y="6356520"/>
            <a:ext cx="607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79480" y="3889440"/>
            <a:ext cx="6042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33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Globalizacja - socj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56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Globalizacja - polity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Globalizacja - kul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1536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0" y="570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„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Niedosyt”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712 Architektura terenów zielonych. Parki. Ogr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712.26+712.28 Ogrody przydomowe i ogródki działk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uje osobnego symbolu i odpowiednika dla Architektury ogrod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728.9 Budynki pomocnicze. Garaże. Cieplarnie. Alt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uje odpowiednika słownego dla hasła głównego : Budynki pomocnic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94(438).082.3 Udział Polski i Polaków w wojnie na Zachodzie. Rząd polski na emigr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uje osobnego symbolu dla hasła „Rząd polski na emigracj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chrona środowis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04.2/.5 Szkody spowodowane przez czynniki naturalne. Zanieczyszczenia. Katastrofy natural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odowisko – szkody spowodowane przez czynniki natural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04.2/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tastrofy naturalne – wpływ na środowisk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04.2/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04.5 Szkody spowodowane substancjami szkodliwymi, trującymi. Zanieczyszcz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Środowisko – szkody spowodowane substancjami szkodliwy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odowisko – zanieczyszcze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0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bstancje trujące – zanieczyszczenia środowiska 50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chrona środowis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04.6 Szkody spowodowane czynnikami fizycznymi. Np.: wibracje, hałas, ciepł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rodowisko - szkody spowodowane czynnikami fizyczny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bracje – wpływ na środowisko 50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ałas - wpływ na środowisko 50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epło - wpływ na środowisko 50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04.61 Szkodliwy wpływ działalności ludzkiej na środowisko. Np.: działania wojenne, roboty inżynieryjne, roboty budowla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Środowisko - szkodliwy wpływ działalności ludz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boty inżynieryjne - wpływ na środowisko 504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boty budowlane - wpływ na środowisko 504.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logo"/>
          <p:cNvPicPr/>
          <p:nvPr/>
        </p:nvPicPr>
        <p:blipFill>
          <a:blip r:embed="rId1"/>
          <a:stretch/>
        </p:blipFill>
        <p:spPr>
          <a:xfrm>
            <a:off x="1979640" y="277920"/>
            <a:ext cx="5472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ole"/>
          <p:cNvPicPr/>
          <p:nvPr/>
        </p:nvPicPr>
        <p:blipFill>
          <a:blip r:embed="rId2"/>
          <a:stretch/>
        </p:blipFill>
        <p:spPr>
          <a:xfrm>
            <a:off x="3995640" y="378936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99640" y="1628280"/>
            <a:ext cx="38149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669) 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72) Meks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63) Et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61) K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92) Paragw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1520" y="1700280"/>
            <a:ext cx="381492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669.1) 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721/727) Meks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630) Et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62) K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93) Paragw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393984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przednie symbole nie zostały „zagospodarowane”, więc ich zasadność jest zastanawiająca. Zmian natomiast jest sporo, w samej literaturze meksykańskiej to blisko 70 rekordów, a w kolumbijskiej jeszcze więc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ymbol zastępczy stopki 3"/>
          <p:cNvSpPr/>
          <p:nvPr/>
        </p:nvSpPr>
        <p:spPr>
          <a:xfrm>
            <a:off x="2411280" y="6356520"/>
            <a:ext cx="496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Poddziały wspólne miejs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Weterynar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1997)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040" y="2490480"/>
            <a:ext cx="381636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1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:636.1 Konie –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1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:636.8 Koty –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1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:636.7 Psy –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1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:636.52/.58 Kury –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gna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19 Wetery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33640" y="2567160"/>
            <a:ext cx="381636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6.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onie –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6.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oty-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6.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sy-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6.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52/.58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ury - cho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gna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36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36.09 Wetery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ymbol zastępczy stopki 3"/>
          <p:cNvSpPr/>
          <p:nvPr/>
        </p:nvSpPr>
        <p:spPr>
          <a:xfrm>
            <a:off x="3124080" y="6356520"/>
            <a:ext cx="367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Turysty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urystykę przeniesiono z działu 37 do 33 i rozbudowano. W nowych tablicach zostały jednak jeszcze dwa symbo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9.82 Czas wolny i rekreacja w domu i pomieszczeniach zamkniętych. Zajęcia kulturalne. Hob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79.83/.84 Czas wolny i rekreacja poza domem. Rekreacja na powietrzu, na wsi, w górach, nad wod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Poddziały wspólne for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1600200"/>
            <a:ext cx="3814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6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 – sprawozdania – poddział wspóln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0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 – wydawnictwa – poddziały wspóln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0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1520" y="1600200"/>
            <a:ext cx="38149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05.7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 – materiał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05.745(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erencje – sprawozd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05.745(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teriały konferencyjn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05.745(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49446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działu wspólnego formy dla materiałów konferencyjnych. Został tylko (06)  z odpowiednikiem słownym: „sprawozdania”. Sporo jest publikacji pokonferencyjnych i brakuje tego symb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Poddziały wspólne języ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4028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1997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040" y="2174400"/>
            <a:ext cx="381636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=821.173 Majowie – język -poddziały wsp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4(728) Majowie - 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.031.2(=821.173) Majowie – szt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gn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94(728) Ameryka Środk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94(728) Maj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blice UKD (wyd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68640" y="2174400"/>
            <a:ext cx="38178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=821.173 Majowie – język -poddziały wsp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4 (=821.173) Majowie -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.031.2(=821.173) Majowie – szt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gn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94(=821.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ymbol zastępczy stopki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Poddziały wspólne języ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61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Bookman Old Style"/>
              </a:rPr>
              <a:t>Tablice UKD (wyd. 1997)</a:t>
            </a:r>
            <a:r>
              <a:rPr b="1" lang="pl-PL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=822.21 Aztekowie – języ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oddziały wsp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94(72) Aztekowie-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.031.2(=822.21) Aztekowie – szt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gnatura dla historii Aztek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94(72) Meks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94(72) Azteko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Bookman Old Style"/>
              </a:rPr>
              <a:t>Tablice UKD (wyd.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=822.21 Aztekowie – poddziały wsp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94(=822.21) Aztekowie – hi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.031.2(=822.21) Aztekowie - szt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gnatura dla historii Aztek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94(=822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ymbol zastępczy stopki 3"/>
          <p:cNvSpPr/>
          <p:nvPr/>
        </p:nvSpPr>
        <p:spPr>
          <a:xfrm>
            <a:off x="2411280" y="6381720"/>
            <a:ext cx="432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Arial"/>
              </a:rPr>
              <a:t>Globalizac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lobalizac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est pojęciem używanym do opisywania zmian w społeczeństwach i gospodarce światowej, które wynikają z gwałtownego wzrostu międzynarodowej wymiany handlowej i kulturowej. Opisuje zwiększenie wymiany informacyjnej, przyśpieszenie i spadek cen transportu, a także wzrost handlu międzynarodowego oraz inwestycji zagranicznych spowodowanych znoszeniem barier oraz rosnących współzależności między państwami. W ekonomii termin ten oznacza głównie zjawiska związane z liberalizacją wymiany handlowej lub “wolnym handlem”. W szerszym znaczeniu odnosi się do rosnącej integracji i współzależności między jednostkami działającymi globalnie na platformie społecznej, politycznej czy ekonomicznej. W skrócie : jest łączeniem się i przenikaniem systemów gospodarczych. (źródło: Wikiped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gnieszka Zygmunciak Biblioteka Publiczna w Dzielnicy Wola m.st. Warsz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Globalizacj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jest tylko dla aspektu zarząd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05.44 – Globalizacja – zarządzan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uje hasła globalizacja dla aspektu politycznego, społecznego, gospodarczego i kultural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ropozy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Globalizacja – polityka międzynarodowa (327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Globalizacja – gospodarka światowa (339.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Globalizacja – socjologia kultury / Globalizacja – kultura (316.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3:12:28Z</dcterms:created>
  <dc:creator>Marek</dc:creator>
  <dc:description/>
  <dc:language>en-US</dc:language>
  <cp:lastModifiedBy>a.borowska</cp:lastModifiedBy>
  <dcterms:modified xsi:type="dcterms:W3CDTF">2009-06-01T09:54:10Z</dcterms:modified>
  <cp:revision>47</cp:revision>
  <dc:subject/>
  <dc:title>Reklasyfikacja – problem czy</dc:title>
</cp:coreProperties>
</file>